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B21-27BF-4C6E-A54C-F278E2E5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A76-2458-4F0C-839C-3B69297D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42E-4332-46D3-BD9A-68FF7603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352-26FD-422E-9D88-12BF7A8C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2B13-D740-4D59-835D-276B7007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2766-C42D-4086-BF08-185BE444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7EB1-7FB6-4765-9E76-21D50EB6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249D-D63E-4A9E-A661-66BDDFF0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8D79-461F-46FE-9E59-77EEEC2F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6488-648B-4604-AFC0-2518AD5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BC07-A2E6-40BA-8273-A9A1BA7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454-AE59-4490-80E0-656D6162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4F22-C0D2-4173-9974-FF09CD5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21F9-A59C-4B55-818D-5DCDFD29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ED79-60C7-4B6D-A892-0BDCFFFF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F1F7-9910-4747-AB84-B0844A94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A710-1705-4AED-88AD-B65E4B25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26A-9C76-49F8-9380-AF604F63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947-515A-46B8-863B-4D489B25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323-462E-456B-B53F-E2300866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819-54D9-4317-8D14-955EDF5E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4D9-993C-4371-BF5B-CCBA3291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694-F884-468C-AE40-B757C5E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5C8-C254-41D2-B4C6-983C8EC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81FD-DFAE-42DC-B3A5-4C66BF9F7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EE32-1F5C-41FF-885D-C9510DB6C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ideo Tit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9E41-0BC1-4CB3-A89A-BAB33B7BE33F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 exactly what you want the user to do after they see your movie. For example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auidence memnbers will be able to name the habitat, adpatation  and environment of the Golden Montazah chic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 how you make money:  who will see your movi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will your movie be special and differ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5:42:13Z</dcterms:created>
  <dc:creator/>
  <dc:description/>
  <dc:language>en-US</dc:language>
  <cp:lastModifiedBy>Scott Moss</cp:lastModifiedBy>
  <dcterms:modified xsi:type="dcterms:W3CDTF">2013-02-14T18:22:18Z</dcterms:modified>
  <cp:revision>36</cp:revision>
  <dc:subject/>
  <dc:title>The Pitch-Then-Plan Business Planning Template</dc:title>
</cp:coreProperties>
</file>